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FFC4-CEEC-43B1-BFDC-6D460AD4E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D51F-8B41-40D8-86A1-F61482F9C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C2D8-6F08-4D0A-8671-F60AEE365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20D4-FE6D-4D33-A120-FB7A5A758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CB07-ED4D-4CD2-BD55-5F45A8FCC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8D6F-4320-4F60-BD2C-498431F71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9B10-567B-488B-B494-0C0F8A1D7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203A-3A33-4A59-908E-71BECB3BC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4C87-39ED-437C-B6D9-7DF10F877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40D-4739-4E3A-8216-48B7D833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1D6-8F78-4D02-B551-D1B79F02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487-0E2B-45FC-91EE-EF0A52AC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982-5126-4CD9-9DC2-1DC217E0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DDEF-DDAA-4DEE-A448-DBFDB458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2404-D989-4E16-9442-E8E4CB04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09D2-9D8F-42EF-A392-E6FA7720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6A76-DEA7-43FF-BAAC-25B3641F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F11C-5A98-4E43-B615-505BBEAD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94A8-67CB-4737-B35D-445CA499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BBA9-15B5-4ADA-80F2-0D5384BE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93C-F9F8-4999-BF7F-CC1DEF57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F2D4-1AEF-4ACF-A783-E8E9B4B3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8814-EC9F-44BC-B9EC-51C4601B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3DCB-C686-4603-B95C-9EC8F33F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027F-7952-4A5E-B24E-1A628819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C16A-3317-49B3-B41F-235F4922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FFCB1-0641-4A6E-86E4-4E8B1C9E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D34D0-EE1F-4156-8DBE-9684D147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29480-E6BD-4616-A0E7-00FA4609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CCD27-28F6-42CE-AA5F-8F4FED2C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D8B1-3E9C-4047-B9F6-48CA4399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7EB-1501-49F4-B499-BAE4B021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BC13E-8D07-4700-8825-8A69C9C0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553B3-AEB6-49FB-8F17-1613E575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6AD67-C125-4CD3-AA5E-6251E497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51A4C-0FC0-40AF-8A08-07CBAD20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7C7BC-90E6-4217-AD1B-F9E80B33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8B877-B1D4-4AA3-B24C-D1E1FC17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5F807-F62D-478E-BFBC-A731F85F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018FE-F040-4B49-83E2-DA739264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ABD80-2406-4E23-B4FE-5C063CE1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2EEAC-D7B7-45B8-B477-02DBCD0D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675-3C4F-427D-A29A-A1A3709D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65894-7621-461A-9A3F-8040219A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BA353-934B-442D-A99D-2C4427EB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A4AD4-AB88-4B25-88BF-A914EF7F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45493-72A5-4BD0-9DD2-4CF5131B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65FC8-BB02-4AEB-A06C-4E1D63A2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710BD-56FB-457E-A933-34CA24F2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D9447-1EE3-4AF4-81D6-2B778467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6AC0E-246A-4AA5-8EA1-091C271C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65B0F-26AA-4A03-85A5-7F36E7A6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E20B3-DFAE-4CD6-A5CA-633EE2E6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FC1-1B92-47CA-B578-56BC4A8F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19593-AF77-44AA-A87E-A39DCC7F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C7B31-3EC6-4338-B1A0-B9DA7E37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F242A-344A-4571-BD0B-C1ABDBA8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90E51-3E1F-429E-925A-235EED19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2B7F5-0C90-4ED4-B6D8-E672C651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718A7-99BA-4A0B-96CA-213A2066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01E36-5EC9-426B-BE2F-23E2CE00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CEA26-709A-4FF8-B448-7913A3B3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416F7-9153-4E10-819C-F6451A18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AA3A7-C72F-4A3C-8A03-9E3653B9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A98-97A1-46B2-A44A-15BD2ECA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74D15-65D0-4D45-9CD3-58A4430A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E3C41-D938-4699-A244-BDA9ABAD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2C705-7585-44FE-A42C-0ECFE8D1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FBB29-A716-4717-BF4F-605A7C71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8E0B3-183C-4542-A1ED-7C741F80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80333-42F4-4694-A2B7-5945E070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EE980-01D6-495D-BD9B-19CBBDF6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88F69-77E5-4536-83BE-A1D33A20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CA436-7FBD-4536-B64B-9AE6AC5C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64470-EB19-4543-AD21-14C8CF63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2B0-469E-4338-85AD-C70DF32B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2EA45-8344-4858-9D4C-70FBA30F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99530-1D1D-4B2E-AE4D-9C95CE31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966C1-FF3D-48B5-94A0-F1012602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FD8D5-6EC1-4A96-8EA7-FC54BF8B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60550-BAEA-4D2E-B46E-047BDDEB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9F003-91AF-4709-A74A-36D98EED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5D644-4793-467C-BBA5-D8E6BE3A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24575-020F-483C-B922-058CF00A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F255E-3D26-4C37-B1AF-CBACAC68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A3A89-6030-4F53-8822-FC03CA79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D5A-6575-4A75-B589-6184F78B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82E04-8C19-469A-87D0-B94DDF33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CABE6-54FB-46C5-9FAD-A6430ADA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CB1CE-DB18-45A7-9F14-2FF6F916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1A378-74AC-4A71-BD0E-28EEFDF5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0F8E2-4C06-4CC8-85B3-C966623C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96E-4492-463C-BB34-988531BD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0B84-C3EA-4D3B-840A-5C38F3E0345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88AC-9F73-4E20-831A-94C6B64AB9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EB9F-C26C-4D4C-AAEA-5ABE058ADC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DE16-C2EB-413B-B960-151ECD2FD25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0615-5897-4834-809A-9F94118986C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624D-550E-4BC5-9020-08F9A201099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89F1-75B6-4E03-9373-11149FA6142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ave power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cale down power rai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nsure Reliabilit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ssues with variat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ssues with timing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dentify and Replac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e custom cel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se different cell from librar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TOOL FLOW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1676520" y="2298600"/>
            <a:ext cx="1263600" cy="41403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FUNCTION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ses Perl to open path and write celllist.l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kill and Perl work together to generate schematic with all cel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tart Cadence and collect info with log fi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TOOL FLOW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FUNCTION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kill Creates secondary library of cells for test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ig ocean created with Perl which contains test information for each cel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cean runs and creates individual resul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erl script checks outpu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1828800" y="2489040"/>
            <a:ext cx="121932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C:\Users\Steve Jocke\Desktop\cell setup.bmp"/>
          <p:cNvPicPr/>
          <p:nvPr/>
        </p:nvPicPr>
        <p:blipFill>
          <a:blip r:embed="rId2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0" y="1447920"/>
            <a:ext cx="9144000" cy="990360"/>
          </a:xfrm>
          <a:prstGeom prst="rect">
            <a:avLst/>
          </a:prstGeom>
          <a:solidFill>
            <a:srgbClr val="bac0cc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figure below displays a typical testing setup for a cell from the ST 120 librar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nother thought to keep in mind is the timing of the waveforms of the inputs.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5257800" cy="4535280"/>
          </a:xfrm>
          <a:prstGeom prst="rect">
            <a:avLst/>
          </a:prstGeom>
          <a:ln w="0">
            <a:noFill/>
          </a:ln>
        </p:spPr>
      </p:pic>
      <p:sp>
        <p:nvSpPr>
          <p:cNvPr id="330" name="TextBox 4"/>
          <p:cNvSpPr/>
          <p:nvPr/>
        </p:nvSpPr>
        <p:spPr>
          <a:xfrm>
            <a:off x="5867280" y="1676520"/>
            <a:ext cx="3048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ant a process TT (typical N&amp;P) to sit on the balanced process lin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se effects are amplified due to the exponential dependence on current in sub-threshol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F corner is a worst case scenario in P-Stro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(left box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FS corner is the worst case scenario in N-Stro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(right box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T MICRO 90 (715 CELLS)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24494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cludes D FF’s &amp; D latch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ested at Tmin = 2 uSe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Vdd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F T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F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5      20 20  18  15  24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         17 21  21  15   3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5      20 20 20  15   49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        22 19  21  13   57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T MICRO 120 (698 CELLS)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cludes D FF’s &amp; D latch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ested at Tmin = 2 uSe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Vdd  FF TT SS FS SF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5     22 25  29  10  3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       25 25  28   8   41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5    25 27   27   8   41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      25 29  29   8   41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T MICRO 90 (715 CELLS)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24494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Not Including D FF’s &amp; D latch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ested at Tmin = 2 uSe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Vdd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F T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F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5       4    4   4    4    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         4    4   4    4     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5      4    4   4    4     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        4    4   4    4     5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T MICRO 120 (698 CELLS)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4720" y="2449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Not Including D FF’s &amp; D latch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ested at Tmin = 2 uSe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Vdd  FF TT SS FS SF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5     5    5    5     5    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3       5    5    5     5    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5    5    5    5     5     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2      5    5    13   8     5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23:46:49Z</dcterms:created>
  <dc:creator>Steve Jocke</dc:creator>
  <dc:description/>
  <dc:language>en-US</dc:language>
  <cp:lastModifiedBy>Steve Jocke</cp:lastModifiedBy>
  <dcterms:modified xsi:type="dcterms:W3CDTF">2007-12-04T18:03:27Z</dcterms:modified>
  <cp:revision>146</cp:revision>
  <dc:subject/>
  <dc:title>Slide 1</dc:title>
</cp:coreProperties>
</file>